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967-C448-4CA9-8989-1B2BA086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921-383A-49ED-8B2A-F0AE8D8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2EB-5A60-4DEC-B486-8EBD4ABB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E7C-7F5C-4D9F-93C6-E9E930CD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0A3-F4A6-4E1F-B4EF-35DF2DFD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E23-8139-467B-8732-C408402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78C-3F6E-4C30-8F96-181A8601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A43-0CE0-43DE-8F4F-DBF1DAC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197-B2E6-490B-85C4-6EE61F02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88C-A383-4075-BB04-B0A347C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275-6C35-402D-A6A3-23C3305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CBF-5E09-483D-853D-B966384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03C28-FA74-4969-8B2B-AE6B8A7A48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5219640" cy="648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4140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52680" y="1079640"/>
            <a:ext cx="6365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4000" spc="-1" strike="noStrike" u="sng">
                <a:solidFill>
                  <a:srgbClr val="0000ff"/>
                </a:solidFill>
                <a:uFillTx/>
                <a:latin typeface="Arial"/>
              </a:rPr>
              <a:t>A CIGARRA E A FORM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1560" y="2340000"/>
            <a:ext cx="7499160" cy="42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Tendo a cigarra em cantigas no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assado todo o ve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chou-se em penúria ext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a tormentosa es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ão lhe restando mig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Que trincasse, a tag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Foi valer-se da formig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Que morava perto d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5000" y="179280"/>
            <a:ext cx="2205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4160" y="1800360"/>
            <a:ext cx="60469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Rogou-lhe que lhe empresta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ois tinha riqueza e bril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lgum grão com que manter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té voltar o acesso es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720" y="3959280"/>
            <a:ext cx="5040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60720" y="1079640"/>
            <a:ext cx="529560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Amiga”, diz a cigar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Prometo, à fé d'anim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agar-vos antes d'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Os juros e o princip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 formiga nunca empre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unca dá, por isso j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”No verão em que lidava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Á pedinte ela per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19796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78160" y="2446200"/>
            <a:ext cx="608148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Responde a outra:- “ Eu can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oite e dia, a toda a hor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Oh! Bravo!”, torna a for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Cantavas? Pois dance agor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558000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9:16Z</dcterms:created>
  <dc:creator/>
  <dc:description/>
  <dc:language>en-US</dc:language>
  <cp:lastModifiedBy/>
  <cp:revision>1</cp:revision>
  <dc:subject/>
  <dc:title/>
</cp:coreProperties>
</file>